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082-87E7-42D3-A46D-DC7D01DB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B42-02F4-45D7-A7A6-CA49943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2E5-E737-47F6-9FDC-C5E79400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A8E-0626-463E-9E05-40C5DD64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F27-02F2-4688-8D50-34AFE97E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3A8-BC45-4E1C-B456-35E0C318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9E0-DB9C-4A29-AEDF-F1703100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DFC-49D2-4D43-91D4-D886690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249-F95E-45D9-8A2F-9E92C289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4C0-15CE-4B1B-B6F5-A9CDB0E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D68-B56A-40D2-BC26-FEC6B3E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854-2AA6-494A-987B-731B959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FD1-0D51-4CDA-89E2-419F997A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g part of the Realism was founded in stories of war, especially the Civil W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ngs They Carrie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876920" y="2895120"/>
            <a:ext cx="2590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truth” of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0767902890"/>
          <p:cNvPicPr/>
          <p:nvPr/>
        </p:nvPicPr>
        <p:blipFill>
          <a:blip r:embed="rId1"/>
          <a:stretch/>
        </p:blipFill>
        <p:spPr>
          <a:xfrm>
            <a:off x="533520" y="1752480"/>
            <a:ext cx="3133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M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id-April, it was their mission to search out and destroy the elaborate tunnel complexes in the Than Ke area south of Chun Lai.  To blow the tunnels, they carried one-pound blocks of pentritehigh explosives, four blocks to a man, 68 pounds in 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Things They C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g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anything suspicious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age:VietnamCuChiTunnelstrapclosed.jpg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age:VietnamCuChiTunnelstrapopen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8:13:45Z</dcterms:created>
  <dc:creator>NPSD</dc:creator>
  <dc:description/>
  <dc:language>en-US</dc:language>
  <cp:lastModifiedBy>Angie McCall</cp:lastModifiedBy>
  <dcterms:modified xsi:type="dcterms:W3CDTF">2012-02-16T18:18:05Z</dcterms:modified>
  <cp:revision>6</cp:revision>
  <dc:subject/>
  <dc:title>“The Things They Carried”</dc:title>
</cp:coreProperties>
</file>